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8F178-8750-45AF-96B8-36F431F88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64A1-C973-4A9E-AA36-FC82838D2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3ABB-7D44-49E7-BA1D-4C0B957E9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8BCB-3AD6-468E-8C7A-1F3059AC6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F7C5-26A5-402D-BF55-37A049F87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45CA-FD7F-4176-980F-D6A2D83B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A748-FF13-4849-9C5A-647B8843A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EF9F-0A09-4101-8260-5F8F76A2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47ADA-E014-43F8-90F9-50EEAD99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02D3-B594-424F-9A10-B1919506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0B9B-1899-472C-9607-091F568F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E717-80B0-4736-A33F-A5833703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E2844-404A-4633-8FD4-2C99EE2F0E53}"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8F170-FFAA-4CF9-A33E-5DD333A6D58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titutional Basis of Federalism</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tion 3.2 </a:t>
            </a: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p. 75-81</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Division of Power</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itutional Framework of Federal System</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legated Pow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Supremacy Clause of Article IV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Reserved Pow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nied Power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owers of the National Government</a:t>
            </a:r>
            <a:endParaRPr b="0" lang="en-US" sz="4000" spc="-1" strike="noStrike">
              <a:solidFill>
                <a:srgbClr val="ffffff"/>
              </a:solidFill>
              <a:latin typeface="Calibri"/>
            </a:endParaRPr>
          </a:p>
        </p:txBody>
      </p:sp>
      <p:sp>
        <p:nvSpPr>
          <p:cNvPr id="46" name=""/>
          <p:cNvSpPr txBox="1"/>
          <p:nvPr/>
        </p:nvSpPr>
        <p:spPr>
          <a:xfrm>
            <a:off x="457200" y="1599840"/>
            <a:ext cx="8229600" cy="4987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wers of the National Governmen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Delegated Powers</a:t>
            </a:r>
            <a:r>
              <a:rPr b="0" lang="en-US" sz="2800" spc="-1" strike="noStrike">
                <a:solidFill>
                  <a:srgbClr val="ffffff"/>
                </a:solidFill>
                <a:latin typeface="Calibri"/>
              </a:rPr>
              <a:t>: Powers given explicitly to the national gov’t and listed in the Constitution.</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Implied Powers</a:t>
            </a:r>
            <a:r>
              <a:rPr b="0" lang="en-US" sz="2800" spc="-1" strike="noStrike">
                <a:solidFill>
                  <a:srgbClr val="ffffff"/>
                </a:solidFill>
                <a:latin typeface="Calibri"/>
              </a:rPr>
              <a:t>: Powers inferred from the delegated powers that allow Congress to carry out its function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Inherent Powers</a:t>
            </a:r>
            <a:r>
              <a:rPr b="0" lang="en-US" sz="2800" spc="-1" strike="noStrike">
                <a:solidFill>
                  <a:srgbClr val="ffffff"/>
                </a:solidFill>
                <a:latin typeface="Calibri"/>
              </a:rPr>
              <a:t>: Powers of the national gov’t in foreign affairs that the Supreme Court has declared to not depend on Constitutional grants, but grow out of the very existence of the national gov’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owers of the National Government</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itutional Pillars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National Supremacy Article (Article IV)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War Power</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ower to Regulate Interstate Commerce and Foreign Commerce (Article I, Section 8, Clause 1)</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ower to Tax and Spen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owers of the States</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Reserve Powers</a:t>
            </a:r>
            <a:r>
              <a:rPr b="0" lang="en-US" sz="3200" spc="-1" strike="noStrike">
                <a:solidFill>
                  <a:srgbClr val="ffffff"/>
                </a:solidFill>
                <a:latin typeface="Calibri"/>
              </a:rPr>
              <a:t>: All powers not specifically delegated to the national government by the Constitution. (Tenth Amendment)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Calibri"/>
              </a:rPr>
              <a:t>Concurrent Powers</a:t>
            </a:r>
            <a:r>
              <a:rPr b="0" lang="en-US" sz="3200" spc="-1" strike="noStrike">
                <a:solidFill>
                  <a:srgbClr val="ffffff"/>
                </a:solidFill>
                <a:latin typeface="Calibri"/>
              </a:rPr>
              <a:t>: Powers the Constitution gives to both the national and state governmen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stitutional Limits and Obligations</a:t>
            </a:r>
            <a:endParaRPr b="0" lang="en-US" sz="40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mits on State Power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aking treaties with foreign govt’s</a:t>
            </a:r>
            <a:endParaRPr b="0" lang="en-US" sz="2800" spc="-1" strike="noStrike">
              <a:solidFill>
                <a:srgbClr val="ffffff"/>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uthorizing privateers to prey on on the shipping and commerce of other nations </a:t>
            </a:r>
            <a:endParaRPr b="0" lang="en-US" sz="2800" spc="-1" strike="noStrike">
              <a:solidFill>
                <a:srgbClr val="ffffff"/>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oining money, issuing bills of credit, or making anything but gold and silver legal tende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stitutional Limits and Obligations</a:t>
            </a:r>
            <a:endParaRPr b="0" lang="en-US" sz="40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mits on State Powers (cont’d)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axing imports or exports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axing foreign ships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Keeping troops or ships of war in time of peace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ngaging in war, unless invaded or in such imminent danger as will not admit of dela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nterstate Relationships (Article IV)</a:t>
            </a:r>
            <a:endParaRPr b="0" lang="en-US" sz="4400" spc="-1" strike="noStrike">
              <a:solidFill>
                <a:srgbClr val="ffffff"/>
              </a:solidFill>
              <a:latin typeface="Calibri"/>
            </a:endParaRPr>
          </a:p>
        </p:txBody>
      </p:sp>
      <p:sp>
        <p:nvSpPr>
          <p:cNvPr id="56" name=""/>
          <p:cNvSpPr txBox="1"/>
          <p:nvPr/>
        </p:nvSpPr>
        <p:spPr>
          <a:xfrm>
            <a:off x="456840" y="1600200"/>
            <a:ext cx="8451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ull Faith and Credit Clause (Section 1)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terstate Privileges and Immunities (Section 2)</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radition (Section 2)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terstate Compac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4:07:02Z</dcterms:created>
  <dc:creator>FAdmin</dc:creator>
  <dc:description/>
  <dc:language>en-US</dc:language>
  <cp:lastModifiedBy>FAdmin</cp:lastModifiedBy>
  <dcterms:modified xsi:type="dcterms:W3CDTF">2011-09-06T14:27:15Z</dcterms:modified>
  <cp:revision>2</cp:revision>
  <dc:subject/>
  <dc:title>Constitutional Basis of Federalism</dc:title>
</cp:coreProperties>
</file>